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5.png" ContentType="image/png"/>
  <Override PartName="/ppt/media/image2.gif" ContentType="image/gif"/>
  <Override PartName="/ppt/media/image42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6.gif" ContentType="image/gif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image15.png" ContentType="image/png"/>
  <Override PartName="/ppt/media/image18.jpeg" ContentType="image/jpeg"/>
  <Override PartName="/ppt/media/image14.png" ContentType="image/png"/>
  <Override PartName="/ppt/media/image11.png" ContentType="image/png"/>
  <Override PartName="/ppt/media/image3.gif" ContentType="image/gif"/>
  <Override PartName="/ppt/media/image45.jpeg" ContentType="image/jpeg"/>
  <Override PartName="/ppt/media/image41.jpeg" ContentType="image/jpeg"/>
  <Override PartName="/ppt/media/image54.png" ContentType="image/png"/>
  <Override PartName="/ppt/media/image46.jpeg" ContentType="image/jpeg"/>
  <Override PartName="/ppt/media/image39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30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40.jpeg" ContentType="image/jpeg"/>
  <Override PartName="/ppt/media/image13.jpeg" ContentType="image/jpeg"/>
  <Override PartName="/ppt/media/image8.gif" ContentType="image/gif"/>
  <Override PartName="/ppt/media/image7.gif" ContentType="image/gif"/>
  <Override PartName="/ppt/media/image52.jpeg" ContentType="image/jpeg"/>
  <Override PartName="/ppt/media/image38.jpeg" ContentType="image/jpeg"/>
  <Override PartName="/ppt/media/image5.gif" ContentType="image/gif"/>
  <Override PartName="/ppt/media/image53.jpeg" ContentType="image/jpeg"/>
  <Override PartName="/ppt/media/image10.gif" ContentType="image/gif"/>
  <Override PartName="/ppt/media/image12.jpeg" ContentType="image/jpeg"/>
  <Override PartName="/ppt/media/image33.jpeg" ContentType="image/jpeg"/>
  <Override PartName="/ppt/media/image4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934-C054-41C9-9C61-AFD3C203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E0D-64D7-46BF-B462-B77A2008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DDC-4D60-460B-84B7-D79307D7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516-BDAC-412F-99E8-91ADB10A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0C6B-F546-42F4-880C-5915DA48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E627-DAD3-41D0-96E8-4BE71BE6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2B1F-0B8E-4C49-B526-541F7D40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8B13-0DE6-4063-8864-32C2BA5C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32E4-E6BB-4E92-ADBC-25D6A1E7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A88F-C9DF-4FC7-A6A3-18FBEECD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E6DA-5D85-4267-A4E7-03F302E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836-4D87-47E2-A01A-1DCE548A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87E0-2524-4F34-8D24-CCF61843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A302-624C-456B-9228-A15F249F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7C40-2174-4C83-80DF-0D138FED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2358-B204-484D-A984-E012711E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EDD4-F883-4D77-B406-A7CE57EE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1C2CE-C1F4-49A3-A0B4-3F2EDC8D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230F-030A-4633-B6DF-38BF61F3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3BED-F735-41D3-A4AF-CCC0D92D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5D122-8033-4070-894C-557FF123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EAA1-9059-429E-8B8C-C2886FD5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322-2D73-4BAE-8C9A-3499336B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9AF9-38F8-41EC-B8E5-267265E9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ACDD3-8731-43A5-B67C-B14EEED3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2F60-C45A-4295-9ACF-6BBC2E0F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0FD71-113F-4567-BEB3-812D2D7E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E43A-D5D0-4A60-9DE0-71C0190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A8D6-093B-4E76-9F96-FB9CDCEE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A06B-046B-4774-A751-CBD1A0D8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2F2-49E3-4D3B-B7A1-A35ABF76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740-DB18-4209-8756-D08284B3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90E-B388-43D3-94D9-21907D44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FEA-A236-4E8D-A2CC-0585DE8D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D61-DEA1-418C-9D49-1424B008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D5A-1D48-4F36-AF4D-326F91BD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6" descr="12.gif"/>
          <p:cNvPicPr/>
          <p:nvPr/>
        </p:nvPicPr>
        <p:blipFill>
          <a:blip r:embed="rId3"/>
          <a:stretch/>
        </p:blipFill>
        <p:spPr>
          <a:xfrm>
            <a:off x="7000920" y="571680"/>
            <a:ext cx="1452600" cy="141732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14" descr="01.gif"/>
          <p:cNvPicPr/>
          <p:nvPr/>
        </p:nvPicPr>
        <p:blipFill>
          <a:blip r:embed="rId4"/>
          <a:stretch/>
        </p:blipFill>
        <p:spPr>
          <a:xfrm>
            <a:off x="585792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2" name="Рисунок 13" descr="r.gif"/>
          <p:cNvPicPr/>
          <p:nvPr/>
        </p:nvPicPr>
        <p:blipFill>
          <a:blip r:embed="rId5"/>
          <a:stretch/>
        </p:blipFill>
        <p:spPr>
          <a:xfrm>
            <a:off x="5500800" y="107172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2" descr="03.gif"/>
          <p:cNvPicPr/>
          <p:nvPr/>
        </p:nvPicPr>
        <p:blipFill>
          <a:blip r:embed="rId6"/>
          <a:stretch/>
        </p:blipFill>
        <p:spPr>
          <a:xfrm>
            <a:off x="507204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11" descr="01.gif"/>
          <p:cNvPicPr/>
          <p:nvPr/>
        </p:nvPicPr>
        <p:blipFill>
          <a:blip r:embed="rId7"/>
          <a:stretch/>
        </p:blipFill>
        <p:spPr>
          <a:xfrm>
            <a:off x="464328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0" descr="t.gif"/>
          <p:cNvPicPr/>
          <p:nvPr/>
        </p:nvPicPr>
        <p:blipFill>
          <a:blip r:embed="rId8"/>
          <a:stretch/>
        </p:blipFill>
        <p:spPr>
          <a:xfrm>
            <a:off x="428616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9" descr="n.gif"/>
          <p:cNvPicPr/>
          <p:nvPr/>
        </p:nvPicPr>
        <p:blipFill>
          <a:blip r:embed="rId9"/>
          <a:stretch/>
        </p:blipFill>
        <p:spPr>
          <a:xfrm>
            <a:off x="378612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8" descr="e.gif"/>
          <p:cNvPicPr/>
          <p:nvPr/>
        </p:nvPicPr>
        <p:blipFill>
          <a:blip r:embed="rId10"/>
          <a:stretch/>
        </p:blipFill>
        <p:spPr>
          <a:xfrm>
            <a:off x="328608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7" descr="04.gif"/>
          <p:cNvPicPr/>
          <p:nvPr/>
        </p:nvPicPr>
        <p:blipFill>
          <a:blip r:embed="rId11"/>
          <a:stretch/>
        </p:blipFill>
        <p:spPr>
          <a:xfrm>
            <a:off x="2857680" y="107172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6" descr="1.gif"/>
          <p:cNvPicPr/>
          <p:nvPr/>
        </p:nvPicPr>
        <p:blipFill>
          <a:blip r:embed="rId12"/>
          <a:stretch/>
        </p:blipFill>
        <p:spPr>
          <a:xfrm>
            <a:off x="1928880" y="64296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0E16-DB2B-4563-B083-ED2CBAE46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5" descr="12.gif"/>
          <p:cNvPicPr/>
          <p:nvPr/>
        </p:nvPicPr>
        <p:blipFill>
          <a:blip r:embed="rId3"/>
          <a:stretch/>
        </p:blipFill>
        <p:spPr>
          <a:xfrm>
            <a:off x="7786800" y="571680"/>
            <a:ext cx="809640" cy="79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DBD0-5FD5-4C57-B03D-A8A5886FD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3C8A-7E67-489B-A933-B77921768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3day.ucoz.ru/_ph/5/2/443202816.jpg" TargetMode="External"/><Relationship Id="rId3" Type="http://schemas.openxmlformats.org/officeDocument/2006/relationships/hyperlink" Target="http://retropost.ru/i/1september/190hbi.jpg" TargetMode="External"/><Relationship Id="rId4" Type="http://schemas.openxmlformats.org/officeDocument/2006/relationships/hyperlink" Target="http://web-drawing.ru/uploads/posts/2008-12/1228213858_00.jpg" TargetMode="External"/><Relationship Id="rId5" Type="http://schemas.openxmlformats.org/officeDocument/2006/relationships/hyperlink" Target="http://interoffice.com.ua/download.php?id=3893" TargetMode="External"/><Relationship Id="rId6" Type="http://schemas.openxmlformats.org/officeDocument/2006/relationships/hyperlink" Target="http://ai-cdr.ucoz.ru/kartinki_2/shkolportfel.gif" TargetMode="External"/><Relationship Id="rId7" Type="http://schemas.openxmlformats.org/officeDocument/2006/relationships/hyperlink" Target="http://img.samsonopt.ru/x/102257_x.png" TargetMode="External"/><Relationship Id="rId8" Type="http://schemas.openxmlformats.org/officeDocument/2006/relationships/hyperlink" Target="http://viki.rdf.ru/media/upload/preview/poem_glasnie.jpg" TargetMode="External"/><Relationship Id="rId9" Type="http://schemas.openxmlformats.org/officeDocument/2006/relationships/hyperlink" Target="http://www.famtoys.ru/files/goods/109661.jpg" TargetMode="External"/><Relationship Id="rId10" Type="http://schemas.openxmlformats.org/officeDocument/2006/relationships/hyperlink" Target="http://upload.wikimedia.org/wikipedia/commons/thumb/9/91/Passer_domesticus_m.jpg/800px-Passer_domesticus_m.jpg" TargetMode="External"/><Relationship Id="rId11" Type="http://schemas.openxmlformats.org/officeDocument/2006/relationships/hyperlink" Target="http://flamber.ru/files/photos/1143131871/1143132258_f.jpg" TargetMode="External"/><Relationship Id="rId12" Type="http://schemas.openxmlformats.org/officeDocument/2006/relationships/hyperlink" Target="http://upload.wikimedia.org/wikipedia/commons/thumb/0/0f/Red-rumpedSwallow01.jpg/275px-Red-rumpedSwallow01.jpg" TargetMode="External"/><Relationship Id="rId13" Type="http://schemas.openxmlformats.org/officeDocument/2006/relationships/hyperlink" Target="http://74.ru/_i/sites/74.ru/forum/files/i_6793927_88540_1270619902.jpg" TargetMode="External"/><Relationship Id="rId14" Type="http://schemas.openxmlformats.org/officeDocument/2006/relationships/hyperlink" Target="http://www.catalogmineralov.ru/pic/114032150806.jpg" TargetMode="External"/><Relationship Id="rId15" Type="http://schemas.openxmlformats.org/officeDocument/2006/relationships/hyperlink" Target="http://forum.materinstvo.ru/uploads/1236385780/post-70101-1236449698_thumb.png" TargetMode="External"/><Relationship Id="rId16" Type="http://schemas.openxmlformats.org/officeDocument/2006/relationships/hyperlink" Target="http://venividi.ru/files/img/1356/photo_11.jpg" TargetMode="External"/><Relationship Id="rId17" Type="http://schemas.openxmlformats.org/officeDocument/2006/relationships/hyperlink" Target="http://static.diary.ru/userdir/1/0/0/9/1009809/35987593.jpg" TargetMode="External"/><Relationship Id="rId18" Type="http://schemas.openxmlformats.org/officeDocument/2006/relationships/hyperlink" Target="http://kolyan.net/uploads/forum/images/1257004205.jpg" TargetMode="External"/><Relationship Id="rId19" Type="http://schemas.openxmlformats.org/officeDocument/2006/relationships/hyperlink" Target="http://i074.radikal.ru/0904/7f/90679b8e3791.jpg" TargetMode="External"/><Relationship Id="rId20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qs.org/photo-dict/photofiles/list/360/717duckling.jpg" TargetMode="External"/><Relationship Id="rId3" Type="http://schemas.openxmlformats.org/officeDocument/2006/relationships/hyperlink" Target="http://esto4er.my1.ru/_ph/2/2/46599811.jpg" TargetMode="External"/><Relationship Id="rId4" Type="http://schemas.openxmlformats.org/officeDocument/2006/relationships/hyperlink" Target="http://festival.1september.ru/files/articles/53/5326/532688/8.jpg" TargetMode="External"/><Relationship Id="rId5" Type="http://schemas.openxmlformats.org/officeDocument/2006/relationships/hyperlink" Target="http://www.cka3ka-pro.ru/les/images/les1.gif" TargetMode="External"/><Relationship Id="rId6" Type="http://schemas.openxmlformats.org/officeDocument/2006/relationships/hyperlink" Target="http://shkolazhizni.ru/img/content/i77/77397_or.jpg" TargetMode="External"/><Relationship Id="rId7" Type="http://schemas.openxmlformats.org/officeDocument/2006/relationships/hyperlink" Target="http://www.mega-data.ru/lnp.php?fn=public/news/28/45/360/aks_2.jpg&amp;scale=8" TargetMode="External"/><Relationship Id="rId8" Type="http://schemas.openxmlformats.org/officeDocument/2006/relationships/hyperlink" Target="http://www.buket71.ru/pub/bouquet/73_.jpg" TargetMode="External"/><Relationship Id="rId9" Type="http://schemas.openxmlformats.org/officeDocument/2006/relationships/hyperlink" Target="http://forum.forum.forum.detsad-kitty.ru/uploads/posts/2010-06/1277926078_5e93bbe86706t.jpg" TargetMode="External"/><Relationship Id="rId10" Type="http://schemas.openxmlformats.org/officeDocument/2006/relationships/hyperlink" Target="http://www.100druzei.ru/upload/gallery24/122050/2009_11_05_13_24_07.jpg" TargetMode="External"/><Relationship Id="rId11" Type="http://schemas.openxmlformats.org/officeDocument/2006/relationships/hyperlink" Target="http://www.cio.arcticsu.ru/projects/pr1093/31.jpg" TargetMode="External"/><Relationship Id="rId12" Type="http://schemas.openxmlformats.org/officeDocument/2006/relationships/hyperlink" Target="http://www.vorle.ru/user/pic10865134.jpg" TargetMode="External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1" descr=""/>
          <p:cNvPicPr/>
          <p:nvPr/>
        </p:nvPicPr>
        <p:blipFill>
          <a:blip r:embed="rId2"/>
          <a:stretch/>
        </p:blipFill>
        <p:spPr>
          <a:xfrm>
            <a:off x="596880" y="1816200"/>
            <a:ext cx="7864560" cy="2438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Documents and Settings\Admin\Рабочий стол\День знаний 2 класс\443202816.jpg"/>
          <p:cNvPicPr/>
          <p:nvPr/>
        </p:nvPicPr>
        <p:blipFill>
          <a:blip r:embed="rId3"/>
          <a:stretch/>
        </p:blipFill>
        <p:spPr>
          <a:xfrm>
            <a:off x="6715080" y="3643200"/>
            <a:ext cx="1576440" cy="21970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7643880" y="3714840"/>
            <a:ext cx="5713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C:\Documents and Settings\Admin\Рабочий стол\День знаний 2 класс\190hbi.jpg"/>
          <p:cNvPicPr/>
          <p:nvPr/>
        </p:nvPicPr>
        <p:blipFill>
          <a:blip r:embed="rId4"/>
          <a:stretch/>
        </p:blipFill>
        <p:spPr>
          <a:xfrm>
            <a:off x="714240" y="3643200"/>
            <a:ext cx="2027520" cy="20718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4"/>
          <p:cNvSpPr/>
          <p:nvPr/>
        </p:nvSpPr>
        <p:spPr>
          <a:xfrm>
            <a:off x="571680" y="4786200"/>
            <a:ext cx="2142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"/>
          <p:cNvSpPr/>
          <p:nvPr/>
        </p:nvSpPr>
        <p:spPr>
          <a:xfrm>
            <a:off x="2357280" y="5143680"/>
            <a:ext cx="5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571680" y="71424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под ворот видно 8 кошачьих лап. Сколько кошек во дво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:\Documents and Settings\Admin\Рабочий стол\День знаний 2 класс\109661.jpg"/>
          <p:cNvPicPr/>
          <p:nvPr/>
        </p:nvPicPr>
        <p:blipFill>
          <a:blip r:embed="rId2"/>
          <a:stretch/>
        </p:blipFill>
        <p:spPr>
          <a:xfrm>
            <a:off x="5572080" y="1533600"/>
            <a:ext cx="2857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571680" y="7142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небу летели воробей, ворона, стрекоза, ласточка и шмель. Сколько птиц летел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C:\Documents and Settings\Admin\Рабочий стол\День знаний 2 класс\800px-Passer_domesticus_m.jpg"/>
          <p:cNvPicPr/>
          <p:nvPr/>
        </p:nvPicPr>
        <p:blipFill>
          <a:blip r:embed="rId2"/>
          <a:stretch/>
        </p:blipFill>
        <p:spPr>
          <a:xfrm>
            <a:off x="3214800" y="3571920"/>
            <a:ext cx="2523960" cy="185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Documents and Settings\Admin\Рабочий стол\День знаний 2 класс\1143132258_f.jpg"/>
          <p:cNvPicPr/>
          <p:nvPr/>
        </p:nvPicPr>
        <p:blipFill>
          <a:blip r:embed="rId3"/>
          <a:stretch/>
        </p:blipFill>
        <p:spPr>
          <a:xfrm>
            <a:off x="5786280" y="2286000"/>
            <a:ext cx="2665440" cy="347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dmin\Рабочий стол\День знаний 2 класс\275px-Red-rumpedSwallow01.jpg"/>
          <p:cNvPicPr/>
          <p:nvPr/>
        </p:nvPicPr>
        <p:blipFill>
          <a:blip r:embed="rId4"/>
          <a:stretch/>
        </p:blipFill>
        <p:spPr>
          <a:xfrm>
            <a:off x="571680" y="2286000"/>
            <a:ext cx="2269800" cy="3408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"/>
          <p:cNvSpPr/>
          <p:nvPr/>
        </p:nvSpPr>
        <p:spPr>
          <a:xfrm>
            <a:off x="2643120" y="207180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3 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950040" y="714240"/>
            <a:ext cx="70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яжелее 1 кг ваты или 1 кг желез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Documents and Settings\Admin\Рабочий стол\День знаний 2 класс\i_6793927_88540_1270619902.jpg"/>
          <p:cNvPicPr/>
          <p:nvPr/>
        </p:nvPicPr>
        <p:blipFill>
          <a:blip r:embed="rId2"/>
          <a:stretch/>
        </p:blipFill>
        <p:spPr>
          <a:xfrm>
            <a:off x="928800" y="2500200"/>
            <a:ext cx="1857240" cy="32162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857160" y="185724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Documents and Settings\Admin\Рабочий стол\День знаний 2 класс\114032150806.jpg"/>
          <p:cNvPicPr/>
          <p:nvPr/>
        </p:nvPicPr>
        <p:blipFill>
          <a:blip r:embed="rId3"/>
          <a:stretch/>
        </p:blipFill>
        <p:spPr>
          <a:xfrm>
            <a:off x="5143680" y="2571840"/>
            <a:ext cx="3071520" cy="30718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5643720" y="20001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071880" y="335772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871920" y="714240"/>
            <a:ext cx="71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да я, да мы с тобой. Много ли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928800" y="428616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Дво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nts and Settings\Admin\Рабочий стол\День знаний 2 класс\post-70101-1236449698_thumb.png"/>
          <p:cNvPicPr/>
          <p:nvPr/>
        </p:nvPicPr>
        <p:blipFill>
          <a:blip r:embed="rId2"/>
          <a:stretch/>
        </p:blipFill>
        <p:spPr>
          <a:xfrm>
            <a:off x="4429080" y="1679400"/>
            <a:ext cx="38466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500040" y="6429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самое маленькое двузнач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643040" y="2000160"/>
            <a:ext cx="5572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500040" y="6429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ря гостил в деревне неделю и 2 дня. Сколько дней гостил Боря в дерев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857160" y="2428920"/>
            <a:ext cx="71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1 неделя = 7 дн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7 + 2 = 9 дн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-55440" y="1523880"/>
            <a:ext cx="9192960" cy="2597400"/>
          </a:xfrm>
          <a:prstGeom prst="rect">
            <a:avLst/>
          </a:prstGeom>
          <a:ln w="0">
            <a:noFill/>
          </a:ln>
        </p:spPr>
      </p:pic>
      <p:pic>
        <p:nvPicPr>
          <p:cNvPr id="173" name="bells_1.mp3" descr=""/>
          <p:cNvPicPr/>
          <p:nvPr/>
        </p:nvPicPr>
        <p:blipFill>
          <a:blip r:embed="rId3"/>
          <a:stretch/>
        </p:blipFill>
        <p:spPr>
          <a:xfrm>
            <a:off x="864396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958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785880" y="866160"/>
            <a:ext cx="585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то в лесу тоннели 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з ветвей плотины стр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Зубы – точно топ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Это трудя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Documents and Settings\Admin\Рабочий стол\День знаний 2 класс\photo_11.jpg"/>
          <p:cNvPicPr/>
          <p:nvPr/>
        </p:nvPicPr>
        <p:blipFill>
          <a:blip r:embed="rId2"/>
          <a:stretch/>
        </p:blipFill>
        <p:spPr>
          <a:xfrm>
            <a:off x="3500280" y="2381400"/>
            <a:ext cx="5000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642960" y="72360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же это за дев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 швея, не мастер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ичего сама не ш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А в иголках круглый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Documents and Settings\Admin\Рабочий стол\День знаний 2 класс\35987593.jpg"/>
          <p:cNvPicPr/>
          <p:nvPr/>
        </p:nvPicPr>
        <p:blipFill>
          <a:blip r:embed="rId2"/>
          <a:stretch/>
        </p:blipFill>
        <p:spPr>
          <a:xfrm>
            <a:off x="4992840" y="1428840"/>
            <a:ext cx="36003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714240" y="861480"/>
            <a:ext cx="46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 родителей и д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я одежда из мон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Admin\Рабочий стол\День знаний 2 класс\1257004205.jpg"/>
          <p:cNvPicPr/>
          <p:nvPr/>
        </p:nvPicPr>
        <p:blipFill>
          <a:blip r:embed="rId2"/>
          <a:stretch/>
        </p:blipFill>
        <p:spPr>
          <a:xfrm>
            <a:off x="3429000" y="2071800"/>
            <a:ext cx="4940280" cy="36795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3"/>
          <p:cNvSpPr/>
          <p:nvPr/>
        </p:nvSpPr>
        <p:spPr>
          <a:xfrm>
            <a:off x="7286760" y="5500800"/>
            <a:ext cx="121428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bells_1.mp3" descr=""/>
          <p:cNvPicPr/>
          <p:nvPr/>
        </p:nvPicPr>
        <p:blipFill>
          <a:blip r:embed="rId2"/>
          <a:stretch/>
        </p:blipFill>
        <p:spPr>
          <a:xfrm>
            <a:off x="8643960" y="59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6" descr=""/>
          <p:cNvPicPr/>
          <p:nvPr/>
        </p:nvPicPr>
        <p:blipFill>
          <a:blip r:embed="rId3"/>
          <a:stretch/>
        </p:blipFill>
        <p:spPr>
          <a:xfrm>
            <a:off x="596880" y="1500120"/>
            <a:ext cx="772488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8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714240" y="8614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олубой аэроплан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ел на белый одуван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Documents and Settings\Admin\Рабочий стол\День знаний 2 класс\90679b8e3791.jpg"/>
          <p:cNvPicPr/>
          <p:nvPr/>
        </p:nvPicPr>
        <p:blipFill>
          <a:blip r:embed="rId2"/>
          <a:stretch/>
        </p:blipFill>
        <p:spPr>
          <a:xfrm>
            <a:off x="3571920" y="2071800"/>
            <a:ext cx="490536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642960" y="866160"/>
            <a:ext cx="621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дивительный ребён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олько вышел из пелё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ожет плавать и ныр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ак его родная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Admin\Рабочий стол\День знаний 2 класс\717duckling.jpg"/>
          <p:cNvPicPr/>
          <p:nvPr/>
        </p:nvPicPr>
        <p:blipFill>
          <a:blip r:embed="rId2"/>
          <a:stretch/>
        </p:blipFill>
        <p:spPr>
          <a:xfrm>
            <a:off x="3929040" y="2868480"/>
            <a:ext cx="4419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571680" y="794880"/>
            <a:ext cx="664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Живёт спокойно, не 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 всякий случай носит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 ним, не зная стра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уляет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Documents and Settings\Admin\Рабочий стол\День знаний 2 класс\46599811.jpg"/>
          <p:cNvPicPr/>
          <p:nvPr/>
        </p:nvPicPr>
        <p:blipFill>
          <a:blip r:embed="rId2"/>
          <a:stretch/>
        </p:blipFill>
        <p:spPr>
          <a:xfrm>
            <a:off x="4660920" y="2357280"/>
            <a:ext cx="37447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ямоугольник 3" descr=""/>
          <p:cNvPicPr/>
          <p:nvPr/>
        </p:nvPicPr>
        <p:blipFill>
          <a:blip r:embed="rId2"/>
          <a:stretch/>
        </p:blipFill>
        <p:spPr>
          <a:xfrm>
            <a:off x="66600" y="1596960"/>
            <a:ext cx="8858160" cy="2597040"/>
          </a:xfrm>
          <a:prstGeom prst="rect">
            <a:avLst/>
          </a:prstGeom>
          <a:ln w="0">
            <a:noFill/>
          </a:ln>
        </p:spPr>
      </p:pic>
      <p:pic>
        <p:nvPicPr>
          <p:cNvPr id="188" name="bells_1.mp3" descr=""/>
          <p:cNvPicPr/>
          <p:nvPr/>
        </p:nvPicPr>
        <p:blipFill>
          <a:blip r:embed="rId3"/>
          <a:stretch/>
        </p:blipFill>
        <p:spPr>
          <a:xfrm>
            <a:off x="864396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958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1087920" y="714240"/>
            <a:ext cx="66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Бедный поп подставил лоб». Ко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" descr="C:\Documents and Settings\Admin\Рабочий стол\День знаний 2 класс\8.jpg"/>
          <p:cNvPicPr/>
          <p:nvPr/>
        </p:nvPicPr>
        <p:blipFill>
          <a:blip r:embed="rId2"/>
          <a:stretch/>
        </p:blipFill>
        <p:spPr>
          <a:xfrm>
            <a:off x="5143680" y="1349280"/>
            <a:ext cx="3322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731160" y="78588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лище Бабы Яг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Documents and Settings\Admin\Рабочий стол\День знаний 2 класс\les1.gif"/>
          <p:cNvPicPr/>
          <p:nvPr/>
        </p:nvPicPr>
        <p:blipFill>
          <a:blip r:embed="rId2"/>
          <a:stretch/>
        </p:blipFill>
        <p:spPr>
          <a:xfrm>
            <a:off x="4786200" y="477720"/>
            <a:ext cx="37623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571680" y="7142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обитателей болот стал женой царевич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Admin\Рабочий стол\День знаний 2 класс\77397_or.jpg"/>
          <p:cNvPicPr/>
          <p:nvPr/>
        </p:nvPicPr>
        <p:blipFill>
          <a:blip r:embed="rId2"/>
          <a:stretch/>
        </p:blipFill>
        <p:spPr>
          <a:xfrm>
            <a:off x="2693880" y="1714680"/>
            <a:ext cx="580716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723600" y="78588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потеряла Золуш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Documents and Settings\Admin\Рабочий стол\День знаний 2 класс\lnp.php.jpeg"/>
          <p:cNvPicPr/>
          <p:nvPr/>
        </p:nvPicPr>
        <p:blipFill>
          <a:blip r:embed="rId2"/>
          <a:stretch/>
        </p:blipFill>
        <p:spPr>
          <a:xfrm>
            <a:off x="2806560" y="1500120"/>
            <a:ext cx="56232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571680" y="64296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цветы собирала падчерица в сказке «Двенадцать месяцев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C:\Documents and Settings\Admin\Рабочий стол\День знаний 2 класс\73_.jpg"/>
          <p:cNvPicPr/>
          <p:nvPr/>
        </p:nvPicPr>
        <p:blipFill>
          <a:blip r:embed="rId2"/>
          <a:stretch/>
        </p:blipFill>
        <p:spPr>
          <a:xfrm>
            <a:off x="3929040" y="1652760"/>
            <a:ext cx="46436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669240" y="714240"/>
            <a:ext cx="65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ла из театра Карабаса Бараба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Admin\Рабочий стол\День знаний 2 класс\1277926078_5e93bbe86706t.jpg"/>
          <p:cNvPicPr/>
          <p:nvPr/>
        </p:nvPicPr>
        <p:blipFill>
          <a:blip r:embed="rId2"/>
          <a:stretch/>
        </p:blipFill>
        <p:spPr>
          <a:xfrm>
            <a:off x="4071960" y="1500120"/>
            <a:ext cx="4238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642960" y="794880"/>
            <a:ext cx="585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оит весёлый светл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бят проворных много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ам пишут и счит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ют и игр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866880" y="3000240"/>
            <a:ext cx="736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654480" y="714240"/>
            <a:ext cx="53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ёлый человечек-луков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Admin\Рабочий стол\День знаний 2 класс\2009_11_05_13_24_07.jpg"/>
          <p:cNvPicPr/>
          <p:nvPr/>
        </p:nvPicPr>
        <p:blipFill>
          <a:blip r:embed="rId2"/>
          <a:stretch/>
        </p:blipFill>
        <p:spPr>
          <a:xfrm>
            <a:off x="4643280" y="1260360"/>
            <a:ext cx="37864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500040" y="714240"/>
            <a:ext cx="62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ой русской народной сказки, путешествующий на печ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Documents and Settings\Admin\Рабочий стол\День знаний 2 класс\31.jpg"/>
          <p:cNvPicPr/>
          <p:nvPr/>
        </p:nvPicPr>
        <p:blipFill>
          <a:blip r:embed="rId2"/>
          <a:stretch/>
        </p:blipFill>
        <p:spPr>
          <a:xfrm>
            <a:off x="5286240" y="1341360"/>
            <a:ext cx="3181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670320" y="642960"/>
            <a:ext cx="67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тальон деревни Простокваши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Documents and Settings\Admin\Рабочий стол\День знаний 2 класс\pic10865134.jpg"/>
          <p:cNvPicPr/>
          <p:nvPr/>
        </p:nvPicPr>
        <p:blipFill>
          <a:blip r:embed="rId2"/>
          <a:stretch/>
        </p:blipFill>
        <p:spPr>
          <a:xfrm>
            <a:off x="5715000" y="1357200"/>
            <a:ext cx="2643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-128520" y="1352520"/>
            <a:ext cx="9351720" cy="2884680"/>
          </a:xfrm>
          <a:prstGeom prst="rect">
            <a:avLst/>
          </a:prstGeom>
          <a:ln w="0">
            <a:noFill/>
          </a:ln>
        </p:spPr>
      </p:pic>
      <p:pic>
        <p:nvPicPr>
          <p:cNvPr id="208" name="bells_1.mp3" descr=""/>
          <p:cNvPicPr/>
          <p:nvPr/>
        </p:nvPicPr>
        <p:blipFill>
          <a:blip r:embed="rId3"/>
          <a:stretch/>
        </p:blipFill>
        <p:spPr>
          <a:xfrm>
            <a:off x="857268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9585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658440" y="714240"/>
            <a:ext cx="344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фруй сло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НИДА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C:\Documents and Settings\Admin\Рабочий стол\2 класс\День знаний 2 класс\1824640.jpg"/>
          <p:cNvPicPr/>
          <p:nvPr/>
        </p:nvPicPr>
        <p:blipFill>
          <a:blip r:embed="rId2"/>
          <a:stretch/>
        </p:blipFill>
        <p:spPr>
          <a:xfrm>
            <a:off x="3571920" y="2643120"/>
            <a:ext cx="4848120" cy="32050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928800" y="4643280"/>
            <a:ext cx="257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ива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571680" y="714240"/>
            <a:ext cx="4572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фруй сло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РООА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Documents and Settings\Admin\Рабочий стол\2 класс\День знаний 2 класс\9093.jpg"/>
          <p:cNvPicPr/>
          <p:nvPr/>
        </p:nvPicPr>
        <p:blipFill>
          <a:blip r:embed="rId2"/>
          <a:stretch/>
        </p:blipFill>
        <p:spPr>
          <a:xfrm>
            <a:off x="3286080" y="2357280"/>
            <a:ext cx="5199120" cy="33861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714240" y="464328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Кор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571680" y="714240"/>
            <a:ext cx="4572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фруй сло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БЯРЕТ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Documents and Settings\Admin\Рабочий стол\2 класс\День знаний 2 класс\image002.jpg"/>
          <p:cNvPicPr/>
          <p:nvPr/>
        </p:nvPicPr>
        <p:blipFill>
          <a:blip r:embed="rId2"/>
          <a:stretch/>
        </p:blipFill>
        <p:spPr>
          <a:xfrm>
            <a:off x="3807000" y="2357280"/>
            <a:ext cx="4622760" cy="34070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642960" y="442908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Ястре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571680" y="71892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вь подходящее по смыслу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руслив как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Documents and Settings\Admin\Рабочий стол\2 класс\День знаний 2 класс\19101640_100__Zayac_.jpg"/>
          <p:cNvPicPr/>
          <p:nvPr/>
        </p:nvPicPr>
        <p:blipFill>
          <a:blip r:embed="rId2"/>
          <a:stretch/>
        </p:blipFill>
        <p:spPr>
          <a:xfrm>
            <a:off x="2957400" y="1785960"/>
            <a:ext cx="55674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642960" y="86148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вь подходящее по смыслу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Хитёр как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Documents and Settings\Admin\Рабочий стол\2 класс\День знаний 2 класс\20081005082702.jpg"/>
          <p:cNvPicPr/>
          <p:nvPr/>
        </p:nvPicPr>
        <p:blipFill>
          <a:blip r:embed="rId2"/>
          <a:stretch/>
        </p:blipFill>
        <p:spPr>
          <a:xfrm>
            <a:off x="5214960" y="1428840"/>
            <a:ext cx="3268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642960" y="790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вь подходящее по смыслу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олоден как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Documents and Settings\Admin\Рабочий стол\2 класс\День знаний 2 класс\album_2001154643_5810.jpg"/>
          <p:cNvPicPr/>
          <p:nvPr/>
        </p:nvPicPr>
        <p:blipFill>
          <a:blip r:embed="rId2"/>
          <a:stretch/>
        </p:blipFill>
        <p:spPr>
          <a:xfrm>
            <a:off x="3357720" y="1785960"/>
            <a:ext cx="5067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42960" y="79488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ли ты его отточ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рисуешь всё, что хоче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лнце, море, горы, пляж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же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Admin\Рабочий стол\День знаний 2 класс\1228213858_00.jpg"/>
          <p:cNvPicPr/>
          <p:nvPr/>
        </p:nvPicPr>
        <p:blipFill>
          <a:blip r:embed="rId2"/>
          <a:stretch/>
        </p:blipFill>
        <p:spPr>
          <a:xfrm>
            <a:off x="4714920" y="2286000"/>
            <a:ext cx="3524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3" descr=""/>
          <p:cNvPicPr/>
          <p:nvPr/>
        </p:nvPicPr>
        <p:blipFill>
          <a:blip r:embed="rId2"/>
          <a:stretch/>
        </p:blipFill>
        <p:spPr>
          <a:xfrm>
            <a:off x="-30240" y="1725480"/>
            <a:ext cx="9161640" cy="2170080"/>
          </a:xfrm>
          <a:prstGeom prst="rect">
            <a:avLst/>
          </a:prstGeom>
          <a:ln w="0">
            <a:noFill/>
          </a:ln>
        </p:spPr>
      </p:pic>
      <p:pic>
        <p:nvPicPr>
          <p:cNvPr id="225" name="bells_1.mp3" descr=""/>
          <p:cNvPicPr/>
          <p:nvPr/>
        </p:nvPicPr>
        <p:blipFill>
          <a:blip r:embed="rId3"/>
          <a:stretch/>
        </p:blipFill>
        <p:spPr>
          <a:xfrm>
            <a:off x="864396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9585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2"/>
          <a:stretch/>
        </p:blipFill>
        <p:spPr>
          <a:xfrm>
            <a:off x="596880" y="1816200"/>
            <a:ext cx="7864560" cy="2438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C:\Documents and Settings\Admin\Рабочий стол\День знаний 2 класс\443202816.jpg"/>
          <p:cNvPicPr/>
          <p:nvPr/>
        </p:nvPicPr>
        <p:blipFill>
          <a:blip r:embed="rId3"/>
          <a:stretch/>
        </p:blipFill>
        <p:spPr>
          <a:xfrm>
            <a:off x="6715080" y="3643200"/>
            <a:ext cx="1576440" cy="21970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7643880" y="3714840"/>
            <a:ext cx="5713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C:\Documents and Settings\Admin\Рабочий стол\День знаний 2 класс\190hbi.jpg"/>
          <p:cNvPicPr/>
          <p:nvPr/>
        </p:nvPicPr>
        <p:blipFill>
          <a:blip r:embed="rId4"/>
          <a:stretch/>
        </p:blipFill>
        <p:spPr>
          <a:xfrm>
            <a:off x="714240" y="3643200"/>
            <a:ext cx="2027520" cy="20718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4"/>
          <p:cNvSpPr/>
          <p:nvPr/>
        </p:nvSpPr>
        <p:spPr>
          <a:xfrm>
            <a:off x="571680" y="4786200"/>
            <a:ext cx="2142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7"/>
          <p:cNvSpPr/>
          <p:nvPr/>
        </p:nvSpPr>
        <p:spPr>
          <a:xfrm>
            <a:off x="2357280" y="5143680"/>
            <a:ext cx="5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bells_1.mp3" descr=""/>
          <p:cNvPicPr/>
          <p:nvPr/>
        </p:nvPicPr>
        <p:blipFill>
          <a:blip r:embed="rId5"/>
          <a:stretch/>
        </p:blipFill>
        <p:spPr>
          <a:xfrm>
            <a:off x="864396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9585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ные ресур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857160"/>
            <a:ext cx="80438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й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13day.ucoz.ru/_ph/5/2/44320281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шка с зайцем читают буквар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etropost.ru/i/1september/190hbi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рандаш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eb-drawing.ru/uploads/posts/2008-12/1228213858_00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нал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nteroffice.com.ua/download.php?id=389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ртфел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ai-cdr.ucoz.ru/kartinki_2/shkolportfel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трад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g.samsonopt.ru/x/102257_x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кв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viki.rdf.ru/media/upload/preview/poem_glasnie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ш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famtoys.ru/files/goods/10966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робей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upload.wikimedia.org/wikipedia/commons/thumb/9/91/Passer_domesticus_m.jpg/800px-Passer_domesticus_m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ро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flamber.ru/files/photos/1143131871/1143132258_f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асточ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upload.wikimedia.org/wikipedia/commons/thumb/0/0f/Red-rumpedSwallow01.jpg/275px-Red-rumpedSwallow0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т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74.ru/_i/sites/74.ru/forum/files/i_6793927_88540_127061990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елезо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catalogmineralov.ru/pic/11403215080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ни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forum.materinstvo.ru/uploads/1236385780/post-70101-1236449698_thumb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обр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venividi.ru/files/img/1356/photo_1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Ёл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static.diary.ru/userdir/1/0/0/9/1009809/3598759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ыб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kolyan.net/uploads/forum/images/1257004205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екоз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i074.radikal.ru/0904/7f/90679b8e379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500040" y="571680"/>
            <a:ext cx="8001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ёнок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faqs.org/photo-dict/photofiles/list/360/717ducklin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пах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esto4er.my1.ru/_ph/2/2/465998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люстрация из сказки А. С. Пушкина «Сказка о попе и работнике его Балде»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festival.1september.ru/files/articles/53/5326/532688/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ушка на курьих ножках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cka3ka-pro.ru/les/images/les1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гушка из сказ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shkolazhizni.ru/img/content/i77/77397_o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устальная туфель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mega-data.ru/lnp.php?fn=public/news/28/45/360/aks_2.jpg&amp;scale=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снежни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buket71.ru/pub/bouquet/73_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ви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forum.forum.forum.detsad-kitty.ru/uploads/posts/2010-06/1277926078_5e93bbe86706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поллино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100druzei.ru/upload/gallery24/122050/2009_11_05_13_24_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мел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cio.arcticsu.ru/projects/pr1093/3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тальон Печкин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vorle.ru/user/pic1086513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ван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www.render.ru/forum/images/upload/182464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в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rt5.karelia.ru/photo/16/161/90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стреб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birds-kg.narod.ru/yastreb.files/image00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яц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img0.liveinternet.ru/images/attach/b/3/19/101/19101640_100__Zayac_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с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whi.s3.leg.entries.lg1x8.simplecdn.net/2008100508270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к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ns.sitecity.ru/users/w/wwolf/storage/album_2001154643_58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 - собственное ф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500040" y="4429080"/>
            <a:ext cx="792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00040" y="5217120"/>
            <a:ext cx="9215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Calibri"/>
              </a:rPr>
              <a:t>Звук колокольчика  http://mobilemax.ru/down/open/20683/zvuk-kolokolchikov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Calibri"/>
              </a:rPr>
              <a:t>Шаблон для презентации  -авторск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571680" y="937800"/>
            <a:ext cx="671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 этой узенькой короб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ы найдёшь каранда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учки, перья, скрепки, кноп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угодно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:\Documents and Settings\Admin\Рабочий стол\День знаний 2 класс\5394504.jpg"/>
          <p:cNvPicPr/>
          <p:nvPr/>
        </p:nvPicPr>
        <p:blipFill>
          <a:blip r:embed="rId2"/>
          <a:stretch/>
        </p:blipFill>
        <p:spPr>
          <a:xfrm>
            <a:off x="5857920" y="2428920"/>
            <a:ext cx="25495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714240" y="866160"/>
            <a:ext cx="5143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овый дом несу в ру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верца дома на зам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ут жильцы бумаж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е ужасно важ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Documents and Settings\Admin\Рабочий стол\День знаний 2 класс\shkolportfel.gif"/>
          <p:cNvPicPr/>
          <p:nvPr/>
        </p:nvPicPr>
        <p:blipFill>
          <a:blip r:embed="rId2"/>
          <a:stretch/>
        </p:blipFill>
        <p:spPr>
          <a:xfrm>
            <a:off x="4683240" y="2286000"/>
            <a:ext cx="35319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642960" y="866160"/>
            <a:ext cx="628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о я в клетку, то в линей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писать во мне сумей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ожешь и нарис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такое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Documents and Settings\Admin\Рабочий стол\День знаний 2 класс\102257_x.png"/>
          <p:cNvPicPr/>
          <p:nvPr/>
        </p:nvPicPr>
        <p:blipFill>
          <a:blip r:embed="rId2"/>
          <a:stretch/>
        </p:blipFill>
        <p:spPr>
          <a:xfrm>
            <a:off x="4786200" y="200016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42960" y="93312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ёрные, кривые, от рождения н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нут в ряд – все за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Admin\Рабочий стол\День знаний 2 класс\poem_glasnie.jpg"/>
          <p:cNvPicPr/>
          <p:nvPr/>
        </p:nvPicPr>
        <p:blipFill>
          <a:blip r:embed="rId2"/>
          <a:stretch/>
        </p:blipFill>
        <p:spPr>
          <a:xfrm>
            <a:off x="3500280" y="2071800"/>
            <a:ext cx="4886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3" descr=""/>
          <p:cNvPicPr/>
          <p:nvPr/>
        </p:nvPicPr>
        <p:blipFill>
          <a:blip r:embed="rId2"/>
          <a:stretch/>
        </p:blipFill>
        <p:spPr>
          <a:xfrm>
            <a:off x="-96840" y="1395360"/>
            <a:ext cx="9264600" cy="3157560"/>
          </a:xfrm>
          <a:prstGeom prst="rect">
            <a:avLst/>
          </a:prstGeom>
          <a:ln w="0">
            <a:noFill/>
          </a:ln>
        </p:spPr>
      </p:pic>
      <p:pic>
        <p:nvPicPr>
          <p:cNvPr id="151" name="bells_1.mp3" descr=""/>
          <p:cNvPicPr/>
          <p:nvPr/>
        </p:nvPicPr>
        <p:blipFill>
          <a:blip r:embed="rId3"/>
          <a:stretch/>
        </p:blipFill>
        <p:spPr>
          <a:xfrm>
            <a:off x="864396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585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2:03:01Z</dcterms:created>
  <dc:creator>Admin</dc:creator>
  <dc:description/>
  <dc:language>en-US</dc:language>
  <cp:lastModifiedBy>Admin</cp:lastModifiedBy>
  <dcterms:modified xsi:type="dcterms:W3CDTF">2016-05-01T19:59:20Z</dcterms:modified>
  <cp:revision>47</cp:revision>
  <dc:subject/>
  <dc:title>Слайд 1</dc:title>
</cp:coreProperties>
</file>